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2.png" ContentType="image/png"/>
  <Override PartName="/ppt/media/image19.png" ContentType="image/png"/>
  <Override PartName="/ppt/media/image21.wmf" ContentType="image/x-wmf"/>
  <Override PartName="/ppt/media/image18.jpeg" ContentType="image/jpeg"/>
  <Override PartName="/ppt/media/image17.png" ContentType="image/png"/>
  <Override PartName="/ppt/media/image15.wmf" ContentType="image/x-wmf"/>
  <Override PartName="/ppt/media/image14.jpeg" ContentType="image/jpeg"/>
  <Override PartName="/ppt/media/image24.png" ContentType="image/png"/>
  <Override PartName="/ppt/media/image11.jpeg" ContentType="image/jpeg"/>
  <Override PartName="/ppt/media/image1.png" ContentType="image/png"/>
  <Override PartName="/ppt/media/image2.jpeg" ContentType="image/jpeg"/>
  <Override PartName="/ppt/media/image20.png" ContentType="image/png"/>
  <Override PartName="/ppt/media/image26.png" ContentType="image/png"/>
  <Override PartName="/ppt/media/image3.png" ContentType="image/png"/>
  <Override PartName="/ppt/media/image27.png" ContentType="image/png"/>
  <Override PartName="/ppt/media/image4.png" ContentType="image/png"/>
  <Override PartName="/ppt/media/image33.wmf" ContentType="image/x-wmf"/>
  <Override PartName="/ppt/media/image34.wmf" ContentType="image/x-wmf"/>
  <Override PartName="/ppt/media/image35.wmf" ContentType="image/x-wmf"/>
  <Override PartName="/ppt/media/image36.wmf" ContentType="image/x-wmf"/>
  <Override PartName="/ppt/media/image39.png" ContentType="image/png"/>
  <Override PartName="/ppt/media/image41.png" ContentType="image/png"/>
  <Override PartName="/ppt/media/image40.png" ContentType="image/png"/>
  <Override PartName="/ppt/media/image9.jpeg" ContentType="image/jpeg"/>
  <Override PartName="/ppt/media/image23.wmf" ContentType="image/x-wmf"/>
  <Override PartName="/ppt/media/image37.jpeg" ContentType="image/jpeg"/>
  <Override PartName="/ppt/media/image30.png" ContentType="image/png"/>
  <Override PartName="/ppt/media/image5.png" ContentType="image/png"/>
  <Override PartName="/ppt/media/image42.png" ContentType="image/png"/>
  <Override PartName="/ppt/media/image43.png" ContentType="image/png"/>
  <Override PartName="/ppt/media/image45.png" ContentType="image/png"/>
  <Override PartName="/ppt/media/image46.jpeg" ContentType="image/jpeg"/>
  <Override PartName="/ppt/media/image12.png" ContentType="image/png"/>
  <Override PartName="/ppt/media/image10.png" ContentType="image/png"/>
  <Override PartName="/ppt/media/image47.png" ContentType="image/png"/>
  <Override PartName="/ppt/media/image38.png" ContentType="image/png"/>
  <Override PartName="/ppt/media/image8.png" ContentType="image/png"/>
  <Override PartName="/ppt/media/image16.wmf" ContentType="image/x-wmf"/>
  <Override PartName="/ppt/media/image6.png" ContentType="image/png"/>
  <Override PartName="/ppt/media/image32.wmf" ContentType="image/x-wmf"/>
  <Override PartName="/ppt/media/image29.png" ContentType="image/png"/>
  <Override PartName="/ppt/media/image28.png" ContentType="image/png"/>
  <Override PartName="/ppt/media/image31.wmf" ContentType="image/x-wmf"/>
  <Override PartName="/ppt/media/image7.jpeg" ContentType="image/jpeg"/>
  <Override PartName="/ppt/media/image13.jpeg" ContentType="image/jpeg"/>
  <Override PartName="/ppt/media/image4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4869-3FCE-4F33-B888-4524DDF98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9E58-9D08-479F-9FEE-4F58A6569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87A4-AAD8-4174-AB8A-8EF438607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E3A3-DEF5-4B13-B549-DA7E2A151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B8FC7-1808-46E5-9A67-DAC9C0679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2FB93-DD84-4114-9B04-E76FAD1CD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D676C-725F-4F68-8BC9-C6A27D54A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4B920-5833-4475-99B2-BA753E250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BBD75-6DEC-4C31-90A3-91B7F2F09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6836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E33DB-E0D2-4D89-8332-ED93919DB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800E9-63C6-4FD7-9BBD-E31CD171B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01A8-633E-4E2A-BAA1-E7D4CA9F6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CA396-8A39-4CBF-A3F8-FF0FAF394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816BB-80BA-4195-8101-CF9F36F9F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BD52E-A225-4A2D-ACE6-1C298DAED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4A1B5-F59D-43A9-AB60-48B6FDF76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BE646-95C8-4DF0-BFF1-6321C56EA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B022-6F5E-4944-AAC5-8CF19F56A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8B6C-7600-4559-BAE7-9E22818E5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8C97-E507-4C16-BF32-B7BC123E7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36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FD86-7179-4979-B341-2E5A9D382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593B-4643-450E-82A3-C0D26028D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9D92-FC15-4462-B05F-D0A0F957D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819E-968D-49AB-9C65-73FFB487B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453360"/>
            <a:ext cx="21337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32000" y="6453360"/>
            <a:ext cx="28958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16360" y="6453360"/>
            <a:ext cx="21337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209A4-8A98-4918-94C2-1B98FC70B3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1341360"/>
            <a:ext cx="9144000" cy="195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ay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Graphics Interface, Victoria, B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83205-4442-4027-9507-FD2EB59CF2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3649680"/>
            <a:ext cx="9144000" cy="195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mproving </a:t>
            </a: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drag-and-drop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on wall-size display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50560" y="4220640"/>
            <a:ext cx="8497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xime Collomb</a:t>
            </a:r>
            <a:r>
              <a:rPr b="1" lang="en-US" sz="2800" spc="-1" strike="noStrike">
                <a:solidFill>
                  <a:srgbClr val="c8c8c8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c8c8c8"/>
                </a:solidFill>
                <a:latin typeface="Arial"/>
              </a:rPr>
              <a:t>LIRM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trick Baudisch</a:t>
            </a:r>
            <a:r>
              <a:rPr b="1" lang="en-US" sz="2800" spc="-1" strike="noStrike">
                <a:solidFill>
                  <a:srgbClr val="c8c8c8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c8c8c8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c8c8c8"/>
                </a:solidFill>
                <a:latin typeface="Arial"/>
              </a:rPr>
              <a:t>Microsoft Rese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c8c8"/>
                </a:solidFill>
                <a:latin typeface="Arial"/>
              </a:rPr>
              <a:t>Mountaz Hascoët, </a:t>
            </a:r>
            <a:r>
              <a:rPr b="0" i="1" lang="en-US" sz="2800" spc="-1" strike="noStrike">
                <a:solidFill>
                  <a:srgbClr val="c8c8c8"/>
                </a:solidFill>
                <a:latin typeface="Arial"/>
              </a:rPr>
              <a:t>LIRMM</a:t>
            </a:r>
            <a:r>
              <a:rPr b="0" lang="en-US" sz="2800" spc="-1" strike="noStrike">
                <a:solidFill>
                  <a:srgbClr val="c8c8c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c8c8"/>
                </a:solidFill>
                <a:latin typeface="Arial"/>
              </a:rPr>
              <a:t>Brian Lee, Stanford </a:t>
            </a:r>
            <a:r>
              <a:rPr b="0" i="1" lang="en-US" sz="2800" spc="-1" strike="noStrike">
                <a:solidFill>
                  <a:srgbClr val="c8c8c8"/>
                </a:solidFill>
                <a:latin typeface="Arial"/>
              </a:rPr>
              <a:t>Computer Graph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rcRect l="7384" t="0" r="4747" b="0"/>
          <a:stretch/>
        </p:blipFill>
        <p:spPr>
          <a:xfrm>
            <a:off x="3348000" y="404640"/>
            <a:ext cx="2664000" cy="177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risbee [Khan, UIST 04]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187280" y="1916280"/>
            <a:ext cx="3751560" cy="17618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0" y="3789360"/>
            <a:ext cx="6273720" cy="23511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5264280" y="1197000"/>
            <a:ext cx="3879720" cy="2478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'05, Victoria, B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C1B7-9130-4AB7-8B75-82A4B1A117B6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aser pointers [Olsen 01, Myers 02]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187280" y="1125360"/>
            <a:ext cx="6934320" cy="5180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'05, Victoria, B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4006-CD13-4FAE-8A92-38D833E32A74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actorBeam [Parker, in 30min]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95280" y="2276640"/>
            <a:ext cx="7993080" cy="3017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'05, Victoria, B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C32C-513C-4245-86FC-DC77A3E74954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ush-and-throw [Hascoët, HCI 03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ntograph principl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~go go technique [Poupyrev, UIST 96]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692360" y="2997360"/>
            <a:ext cx="5143320" cy="2357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'05, Victoria, B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03AB-8ED7-4B41-BD6D-E2F7E2A4E3C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mediacall" presetID="1" repeatCount="1000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" dur="3200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200"/>
                            </p:stCondLst>
                            <p:childTnLst>
                              <p:par>
                                <p:cTn id="3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" dur="3200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6400"/>
                            </p:stCondLst>
                            <p:childTnLst>
                              <p:par>
                                <p:cTn id="3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" dur="3200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DAR [Nacenta,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I 05]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ntographs (lots of them…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826920" y="2708280"/>
            <a:ext cx="7564680" cy="3211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'05, Victoria, B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E01F-18F8-4209-9FEA-4654D539DBE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rag-and-pop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[Baudisch, INTERACT 03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692360" y="2997360"/>
            <a:ext cx="5143320" cy="2357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'05, Victoria, B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F8D2-387C-462E-9404-A200DD168DC1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" dur="2734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734"/>
                            </p:stCondLst>
                            <p:childTnLst>
                              <p:par>
                                <p:cTn id="4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" dur="2734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468"/>
                            </p:stCondLst>
                            <p:childTnLst>
                              <p:par>
                                <p:cTn id="4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" dur="2734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Vacuum [Bezerianos, CHI 05]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00000" y="1557360"/>
            <a:ext cx="7632720" cy="4902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'05, Victoria, B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A5AD-6D52-4436-9A41-EA2E6F45991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The question…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'05, Victoria, B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0E0E-CEE3-4DB7-A695-DC54C5086AC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bet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ing user to content (push-and-throw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ing content to user (drag-and-pop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 just good old direct manipulation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pick-and-drop)</a:t>
            </a:r>
            <a:br>
              <a:rPr sz="2800"/>
            </a:br>
            <a:r>
              <a:rPr b="1" lang="en-US" sz="96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'05, Victoria, B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DA01-CAC2-41D1-987C-4FE4B9F3719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ixing drag-and-pop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asymmetric target sect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ke sure proxies appear in current display uni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-1668" b="-1352"/>
          <a:stretch/>
        </p:blipFill>
        <p:spPr>
          <a:xfrm>
            <a:off x="4284720" y="4365720"/>
            <a:ext cx="4319640" cy="1871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'05, Victoria, B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9408-6EBF-47BB-9562-DE279F9A214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1700280"/>
            <a:ext cx="9144000" cy="4179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698480"/>
            <a:ext cx="9144000" cy="41817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0" y="1697040"/>
            <a:ext cx="9144000" cy="4183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0" y="1700280"/>
            <a:ext cx="9144000" cy="417996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Push-and-pop: not quite a dem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492360" y="6021360"/>
            <a:ext cx="56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wnload our demo from www.lirmm.fr/vag/drag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'05, Victoria, B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0B15-10AD-4CE1-87CD-B7F41A1FFCA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ixing push-and-throw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 non-linear accele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 semantic pointing: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low down pointer over target [Blanch CHI 04]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908000" y="3933720"/>
            <a:ext cx="5143680" cy="23576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1908000" y="3933720"/>
            <a:ext cx="5143680" cy="2357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'05, Victoria, B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65D9-EB96-48F4-A4EF-0D1E21118B8F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" dur="4400" fill="hold"/>
                                        <p:tgtEl>
                                          <p:spTgt spid="1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4400"/>
                            </p:stCondLst>
                            <p:childTnLst>
                              <p:par>
                                <p:cTn id="6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" dur="4400" fill="hold"/>
                                        <p:tgtEl>
                                          <p:spTgt spid="1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cmd type="call" cmd="stop"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mediacall" presetID="1" repeatCount="1000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0" dur="4800" fill="hold"/>
                                        <p:tgtEl>
                                          <p:spTgt spid="1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4800"/>
                            </p:stCondLst>
                            <p:childTnLst>
                              <p:par>
                                <p:cTn id="7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3" dur="4800" fill="hold"/>
                                        <p:tgtEl>
                                          <p:spTgt spid="1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wait: maybe push-and-throw and drag-and-pop are not mutually exclusive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'05, Victoria, B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443F-1E59-4E0E-B8E2-1B444AB79487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ush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-and-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op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om drag-and-po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inging targets to the us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void imprecision of push-and-thr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om push-and-thr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ing the object centered take-off ar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void target set selection error of drag-and-po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6659640" y="4292640"/>
            <a:ext cx="2306520" cy="12193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294600" y="2205000"/>
            <a:ext cx="2849400" cy="123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'05, Victoria, B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541D-6B29-428C-9A70-80384026ABF6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ush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-and-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op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692360" y="2997360"/>
            <a:ext cx="5143320" cy="23572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1692360" y="2997360"/>
            <a:ext cx="5143320" cy="2357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'05, Victoria, B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A7D8-48E3-4F7F-A280-66EE575AA7B9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3" dur="2467" fill="hold"/>
                                        <p:tgtEl>
                                          <p:spTgt spid="1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7" dur="2467" fill="hold"/>
                                        <p:tgtEl>
                                          <p:spTgt spid="1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mediacall" presetID="1" repeatCount="1000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1" dur="2467" fill="hold"/>
                                        <p:tgtEl>
                                          <p:spTgt spid="1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cmd type="call" cmd="stop"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1" dur="5534" fill="hold"/>
                                        <p:tgtEl>
                                          <p:spTgt spid="1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534"/>
                            </p:stCondLst>
                            <p:childTnLst>
                              <p:par>
                                <p:cTn id="10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4" dur="5534" fill="hold"/>
                                        <p:tgtEl>
                                          <p:spTgt spid="1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1068"/>
                            </p:stCondLst>
                            <p:childTnLst>
                              <p:par>
                                <p:cTn id="10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7" dur="5534" fill="hold"/>
                                        <p:tgtEl>
                                          <p:spTgt spid="1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User studi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'05, Victoria, B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4129-8893-43AC-A84E-36CB06C005BE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616720" y="260280"/>
            <a:ext cx="352728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ff"/>
                </a:solidFill>
                <a:latin typeface="Wingdings"/>
                <a:ea typeface="Wingdings"/>
              </a:rPr>
              <a:t>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Wall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exp. n°2)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 participa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329080" cy="35463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4067280" y="2833560"/>
            <a:ext cx="5076720" cy="36306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0" y="4437000"/>
            <a:ext cx="385128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Wingdings"/>
                <a:ea typeface="Wingdings"/>
              </a:rPr>
              <a:t>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uble display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exp. n°1)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2 particip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067280" y="2852640"/>
            <a:ext cx="5076720" cy="360072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'05, Victoria, B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B858-3A96-4AD4-9576-903EFFCEED59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terfac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250920" y="2276640"/>
          <a:ext cx="8569080" cy="3622680"/>
        </p:xfrm>
        <a:graphic>
          <a:graphicData uri="http://schemas.openxmlformats.org/drawingml/2006/table">
            <a:tbl>
              <a:tblPr/>
              <a:tblGrid>
                <a:gridCol w="2828880"/>
                <a:gridCol w="2500200"/>
                <a:gridCol w="3240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b2b2b2"/>
                          </a:solidFill>
                          <a:latin typeface="Arial"/>
                        </a:rPr>
                        <a:t>Techniq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84b7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b2b2b2"/>
                          </a:solidFill>
                          <a:latin typeface="Arial"/>
                        </a:rPr>
                        <a:t>Approa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84b7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b2b2b2"/>
                          </a:solidFill>
                          <a:latin typeface="Arial"/>
                        </a:rPr>
                        <a:t>Need to reori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84b72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b2b2b2"/>
                          </a:solidFill>
                          <a:latin typeface="Arial"/>
                        </a:rPr>
                        <a:t>Drag-and-dro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b2b2b2"/>
                          </a:solidFill>
                          <a:latin typeface="Arial"/>
                        </a:rPr>
                        <a:t>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b2b2b2"/>
                          </a:solidFill>
                          <a:latin typeface="Arial"/>
                        </a:rPr>
                        <a:t>Nev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b2b2b2"/>
                          </a:solidFill>
                          <a:latin typeface="Arial"/>
                        </a:rPr>
                        <a:t>Pick-and-dro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b2b2b2"/>
                          </a:solidFill>
                          <a:latin typeface="Arial"/>
                        </a:rPr>
                        <a:t>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b2b2b2"/>
                          </a:solidFill>
                          <a:latin typeface="Arial"/>
                        </a:rPr>
                        <a:t>Nev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b2b2b2"/>
                          </a:solidFill>
                          <a:latin typeface="Arial"/>
                        </a:rPr>
                        <a:t>Push-and-thr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b2b2b2"/>
                          </a:solidFill>
                          <a:latin typeface="Arial"/>
                        </a:rPr>
                        <a:t>To targe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b2b2b2"/>
                          </a:solidFill>
                          <a:latin typeface="Arial"/>
                        </a:rPr>
                        <a:t>Constantl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b2b2b2"/>
                          </a:solidFill>
                          <a:latin typeface="Arial"/>
                        </a:rPr>
                        <a:t>Accelerated P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b2b2b2"/>
                          </a:solidFill>
                          <a:latin typeface="Arial"/>
                        </a:rPr>
                        <a:t>To targe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b2b2b2"/>
                          </a:solidFill>
                          <a:latin typeface="Arial"/>
                        </a:rPr>
                        <a:t>Constantl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b2b2b2"/>
                          </a:solidFill>
                          <a:latin typeface="Arial"/>
                        </a:rPr>
                        <a:t>Drag-and-po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b2b2b2"/>
                          </a:solidFill>
                          <a:latin typeface="Arial"/>
                        </a:rPr>
                        <a:t>To point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b2b2b2"/>
                          </a:solidFill>
                          <a:latin typeface="Arial"/>
                        </a:rPr>
                        <a:t>On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ush-and-po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 point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nce, later nev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2" name=""/>
          <p:cNvSpPr/>
          <p:nvPr/>
        </p:nvSpPr>
        <p:spPr>
          <a:xfrm>
            <a:off x="108000" y="2781360"/>
            <a:ext cx="8856720" cy="100800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08000" y="3860640"/>
            <a:ext cx="8856720" cy="100836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08000" y="4869000"/>
            <a:ext cx="8856720" cy="100800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'05, Victoria, B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77B3-2AD7-4F16-81DB-8D1E8C85B8A1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as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agging icons into target icon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 a simulated deskto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ependent varia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 interfa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 distan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eated 3 time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4 times on the 2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xp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16 / 288 trials for each particip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pendent varia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vement 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rror r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bjective satisfa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'05, Victoria, B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249D-F49E-4960-BB66-75119E0D191C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116000" y="1413000"/>
            <a:ext cx="6769080" cy="42955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1620720" y="1474920"/>
            <a:ext cx="6337440" cy="3429000"/>
          </a:xfrm>
          <a:custGeom>
            <a:avLst/>
            <a:gdLst/>
            <a:ahLst/>
            <a:rect l="l" t="t" r="r" b="b"/>
            <a:pathLst>
              <a:path w="3992" h="2160">
                <a:moveTo>
                  <a:pt x="208" y="1836"/>
                </a:moveTo>
                <a:cubicBezTo>
                  <a:pt x="369" y="1795"/>
                  <a:pt x="923" y="1906"/>
                  <a:pt x="1129" y="1843"/>
                </a:cubicBezTo>
                <a:cubicBezTo>
                  <a:pt x="1335" y="1780"/>
                  <a:pt x="1335" y="1675"/>
                  <a:pt x="1444" y="1459"/>
                </a:cubicBezTo>
                <a:cubicBezTo>
                  <a:pt x="1553" y="1243"/>
                  <a:pt x="1559" y="766"/>
                  <a:pt x="1782" y="546"/>
                </a:cubicBezTo>
                <a:cubicBezTo>
                  <a:pt x="2005" y="326"/>
                  <a:pt x="2488" y="209"/>
                  <a:pt x="2781" y="139"/>
                </a:cubicBezTo>
                <a:cubicBezTo>
                  <a:pt x="3074" y="69"/>
                  <a:pt x="3381" y="0"/>
                  <a:pt x="3541" y="123"/>
                </a:cubicBezTo>
                <a:cubicBezTo>
                  <a:pt x="3701" y="246"/>
                  <a:pt x="3992" y="733"/>
                  <a:pt x="3741" y="876"/>
                </a:cubicBezTo>
                <a:cubicBezTo>
                  <a:pt x="3490" y="1019"/>
                  <a:pt x="2395" y="848"/>
                  <a:pt x="2036" y="983"/>
                </a:cubicBezTo>
                <a:cubicBezTo>
                  <a:pt x="1677" y="1118"/>
                  <a:pt x="1730" y="1500"/>
                  <a:pt x="1587" y="1685"/>
                </a:cubicBezTo>
                <a:cubicBezTo>
                  <a:pt x="1444" y="1870"/>
                  <a:pt x="1416" y="2026"/>
                  <a:pt x="1179" y="2093"/>
                </a:cubicBezTo>
                <a:cubicBezTo>
                  <a:pt x="942" y="2160"/>
                  <a:pt x="324" y="2132"/>
                  <a:pt x="162" y="2089"/>
                </a:cubicBezTo>
                <a:cubicBezTo>
                  <a:pt x="0" y="2046"/>
                  <a:pt x="47" y="1877"/>
                  <a:pt x="208" y="1836"/>
                </a:cubicBezTo>
                <a:close/>
              </a:path>
            </a:pathLst>
          </a:custGeom>
          <a:noFill/>
          <a:ln w="76320">
            <a:solidFill>
              <a:srgbClr val="ff3300"/>
            </a:solidFill>
            <a:round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612800" y="3370320"/>
            <a:ext cx="6505560" cy="1539720"/>
          </a:xfrm>
          <a:custGeom>
            <a:avLst/>
            <a:gdLst/>
            <a:ahLst/>
            <a:rect l="l" t="t" r="r" b="b"/>
            <a:pathLst>
              <a:path w="4098" h="970">
                <a:moveTo>
                  <a:pt x="267" y="519"/>
                </a:moveTo>
                <a:cubicBezTo>
                  <a:pt x="338" y="448"/>
                  <a:pt x="493" y="490"/>
                  <a:pt x="599" y="486"/>
                </a:cubicBezTo>
                <a:cubicBezTo>
                  <a:pt x="705" y="482"/>
                  <a:pt x="743" y="552"/>
                  <a:pt x="904" y="496"/>
                </a:cubicBezTo>
                <a:cubicBezTo>
                  <a:pt x="1065" y="440"/>
                  <a:pt x="1410" y="177"/>
                  <a:pt x="1567" y="148"/>
                </a:cubicBezTo>
                <a:cubicBezTo>
                  <a:pt x="1724" y="119"/>
                  <a:pt x="1747" y="308"/>
                  <a:pt x="1849" y="319"/>
                </a:cubicBezTo>
                <a:cubicBezTo>
                  <a:pt x="1951" y="330"/>
                  <a:pt x="2073" y="209"/>
                  <a:pt x="2179" y="212"/>
                </a:cubicBezTo>
                <a:cubicBezTo>
                  <a:pt x="2285" y="215"/>
                  <a:pt x="2388" y="333"/>
                  <a:pt x="2486" y="335"/>
                </a:cubicBezTo>
                <a:cubicBezTo>
                  <a:pt x="2584" y="337"/>
                  <a:pt x="2611" y="282"/>
                  <a:pt x="2770" y="227"/>
                </a:cubicBezTo>
                <a:cubicBezTo>
                  <a:pt x="2929" y="172"/>
                  <a:pt x="3287" y="10"/>
                  <a:pt x="3439" y="5"/>
                </a:cubicBezTo>
                <a:cubicBezTo>
                  <a:pt x="3591" y="0"/>
                  <a:pt x="3627" y="103"/>
                  <a:pt x="3684" y="196"/>
                </a:cubicBezTo>
                <a:cubicBezTo>
                  <a:pt x="3741" y="289"/>
                  <a:pt x="4098" y="492"/>
                  <a:pt x="3784" y="565"/>
                </a:cubicBezTo>
                <a:cubicBezTo>
                  <a:pt x="3470" y="638"/>
                  <a:pt x="2210" y="582"/>
                  <a:pt x="1797" y="632"/>
                </a:cubicBezTo>
                <a:cubicBezTo>
                  <a:pt x="1384" y="682"/>
                  <a:pt x="1578" y="819"/>
                  <a:pt x="1307" y="866"/>
                </a:cubicBezTo>
                <a:cubicBezTo>
                  <a:pt x="1036" y="913"/>
                  <a:pt x="346" y="970"/>
                  <a:pt x="173" y="912"/>
                </a:cubicBezTo>
                <a:cubicBezTo>
                  <a:pt x="0" y="854"/>
                  <a:pt x="196" y="590"/>
                  <a:pt x="267" y="519"/>
                </a:cubicBezTo>
                <a:close/>
              </a:path>
            </a:pathLst>
          </a:custGeom>
          <a:noFill/>
          <a:ln w="76320">
            <a:solidFill>
              <a:srgbClr val="ff3300"/>
            </a:solidFill>
            <a:round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695600" y="4246560"/>
            <a:ext cx="6465600" cy="649440"/>
          </a:xfrm>
          <a:custGeom>
            <a:avLst/>
            <a:gdLst/>
            <a:ahLst/>
            <a:rect l="l" t="t" r="r" b="b"/>
            <a:pathLst>
              <a:path w="4073" h="409">
                <a:moveTo>
                  <a:pt x="0" y="366"/>
                </a:moveTo>
                <a:cubicBezTo>
                  <a:pt x="559" y="409"/>
                  <a:pt x="2853" y="403"/>
                  <a:pt x="3463" y="351"/>
                </a:cubicBezTo>
                <a:cubicBezTo>
                  <a:pt x="4073" y="299"/>
                  <a:pt x="3698" y="102"/>
                  <a:pt x="3663" y="51"/>
                </a:cubicBezTo>
                <a:cubicBezTo>
                  <a:pt x="3628" y="0"/>
                  <a:pt x="3378" y="27"/>
                  <a:pt x="3256" y="44"/>
                </a:cubicBezTo>
                <a:cubicBezTo>
                  <a:pt x="3134" y="61"/>
                  <a:pt x="3130" y="151"/>
                  <a:pt x="2933" y="151"/>
                </a:cubicBezTo>
                <a:cubicBezTo>
                  <a:pt x="2736" y="151"/>
                  <a:pt x="2328" y="50"/>
                  <a:pt x="2073" y="44"/>
                </a:cubicBezTo>
                <a:cubicBezTo>
                  <a:pt x="1818" y="38"/>
                  <a:pt x="1663" y="93"/>
                  <a:pt x="1405" y="113"/>
                </a:cubicBezTo>
                <a:cubicBezTo>
                  <a:pt x="1147" y="133"/>
                  <a:pt x="738" y="171"/>
                  <a:pt x="522" y="167"/>
                </a:cubicBezTo>
                <a:cubicBezTo>
                  <a:pt x="306" y="163"/>
                  <a:pt x="194" y="57"/>
                  <a:pt x="107" y="90"/>
                </a:cubicBezTo>
                <a:cubicBezTo>
                  <a:pt x="20" y="123"/>
                  <a:pt x="22" y="309"/>
                  <a:pt x="0" y="366"/>
                </a:cubicBezTo>
                <a:close/>
              </a:path>
            </a:pathLst>
          </a:custGeom>
          <a:noFill/>
          <a:ln w="76320">
            <a:solidFill>
              <a:srgbClr val="ff3300"/>
            </a:solidFill>
            <a:round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irst study resul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400" y="5805360"/>
            <a:ext cx="800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an task completion time for each technique depending of the ID of th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780000" y="3860640"/>
            <a:ext cx="431640" cy="43200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211640" y="1557360"/>
            <a:ext cx="0" cy="381636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'05, Victoria, B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4A51-4097-4DA4-B114-2E2317D83B83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irst study resul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908000" y="1413000"/>
            <a:ext cx="5293080" cy="42336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3279240" y="5805360"/>
            <a:ext cx="247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rror rates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(in perc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356000" y="3860640"/>
            <a:ext cx="2232000" cy="50508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356000" y="2131920"/>
            <a:ext cx="2232000" cy="50508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356000" y="4508640"/>
            <a:ext cx="2232000" cy="504720"/>
          </a:xfrm>
          <a:prstGeom prst="rect">
            <a:avLst/>
          </a:prstGeom>
          <a:noFill/>
          <a:ln w="76320">
            <a:solidFill>
              <a:srgbClr val="284b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356000" y="3211560"/>
            <a:ext cx="2232000" cy="504720"/>
          </a:xfrm>
          <a:prstGeom prst="rect">
            <a:avLst/>
          </a:prstGeom>
          <a:noFill/>
          <a:ln w="76320">
            <a:solidFill>
              <a:srgbClr val="284b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'05, Victoria, B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D36D-18DD-410F-905C-E7542651EACF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arn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ts of 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and-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names ahead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'05, Victoria, B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4487-D49B-4056-A784-3BE8B5C04F8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irst study resul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2268360" y="1557360"/>
            <a:ext cx="4608720" cy="408456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2489400" y="5805360"/>
            <a:ext cx="422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bjective preferences (higher is bet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067280" y="1773360"/>
            <a:ext cx="2592360" cy="50328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067280" y="2349360"/>
            <a:ext cx="2592360" cy="187164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067280" y="4365720"/>
            <a:ext cx="2592360" cy="107928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'05, Victoria, B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064A-0316-49EC-A696-9D6DA035E9E1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peated same study on 3-unit display w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2556000" y="2860560"/>
            <a:ext cx="4751280" cy="31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'05, Victoria, B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0C18-2471-48C6-B46A-DD8943F7F6F8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971640" y="1484280"/>
            <a:ext cx="7200720" cy="429732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538280" y="1544760"/>
            <a:ext cx="6659640" cy="3468600"/>
          </a:xfrm>
          <a:custGeom>
            <a:avLst/>
            <a:gdLst/>
            <a:ahLst/>
            <a:rect l="l" t="t" r="r" b="b"/>
            <a:pathLst>
              <a:path w="4195" h="2185">
                <a:moveTo>
                  <a:pt x="321" y="2153"/>
                </a:moveTo>
                <a:cubicBezTo>
                  <a:pt x="413" y="2134"/>
                  <a:pt x="492" y="2012"/>
                  <a:pt x="651" y="1999"/>
                </a:cubicBezTo>
                <a:cubicBezTo>
                  <a:pt x="810" y="1986"/>
                  <a:pt x="1117" y="2128"/>
                  <a:pt x="1274" y="2076"/>
                </a:cubicBezTo>
                <a:cubicBezTo>
                  <a:pt x="1431" y="2024"/>
                  <a:pt x="1426" y="1743"/>
                  <a:pt x="1593" y="1686"/>
                </a:cubicBezTo>
                <a:cubicBezTo>
                  <a:pt x="1760" y="1629"/>
                  <a:pt x="2100" y="1738"/>
                  <a:pt x="2274" y="1731"/>
                </a:cubicBezTo>
                <a:cubicBezTo>
                  <a:pt x="2448" y="1724"/>
                  <a:pt x="2526" y="1736"/>
                  <a:pt x="2637" y="1641"/>
                </a:cubicBezTo>
                <a:cubicBezTo>
                  <a:pt x="2748" y="1546"/>
                  <a:pt x="2834" y="1230"/>
                  <a:pt x="2940" y="1162"/>
                </a:cubicBezTo>
                <a:cubicBezTo>
                  <a:pt x="3046" y="1094"/>
                  <a:pt x="3096" y="1228"/>
                  <a:pt x="3272" y="1232"/>
                </a:cubicBezTo>
                <a:cubicBezTo>
                  <a:pt x="3448" y="1236"/>
                  <a:pt x="3877" y="1368"/>
                  <a:pt x="3998" y="1187"/>
                </a:cubicBezTo>
                <a:cubicBezTo>
                  <a:pt x="4119" y="1006"/>
                  <a:pt x="4195" y="288"/>
                  <a:pt x="3998" y="144"/>
                </a:cubicBezTo>
                <a:cubicBezTo>
                  <a:pt x="3801" y="0"/>
                  <a:pt x="3066" y="181"/>
                  <a:pt x="2818" y="325"/>
                </a:cubicBezTo>
                <a:cubicBezTo>
                  <a:pt x="2570" y="469"/>
                  <a:pt x="2661" y="902"/>
                  <a:pt x="2510" y="1008"/>
                </a:cubicBezTo>
                <a:cubicBezTo>
                  <a:pt x="2359" y="1114"/>
                  <a:pt x="2080" y="940"/>
                  <a:pt x="1911" y="960"/>
                </a:cubicBezTo>
                <a:cubicBezTo>
                  <a:pt x="1742" y="980"/>
                  <a:pt x="1623" y="1001"/>
                  <a:pt x="1496" y="1131"/>
                </a:cubicBezTo>
                <a:cubicBezTo>
                  <a:pt x="1369" y="1261"/>
                  <a:pt x="1371" y="1638"/>
                  <a:pt x="1151" y="1738"/>
                </a:cubicBezTo>
                <a:cubicBezTo>
                  <a:pt x="931" y="1838"/>
                  <a:pt x="350" y="1667"/>
                  <a:pt x="175" y="1730"/>
                </a:cubicBezTo>
                <a:cubicBezTo>
                  <a:pt x="0" y="1793"/>
                  <a:pt x="75" y="2043"/>
                  <a:pt x="99" y="2114"/>
                </a:cubicBezTo>
                <a:cubicBezTo>
                  <a:pt x="123" y="2185"/>
                  <a:pt x="246" y="2164"/>
                  <a:pt x="321" y="2153"/>
                </a:cubicBezTo>
                <a:close/>
              </a:path>
            </a:pathLst>
          </a:custGeom>
          <a:noFill/>
          <a:ln w="76320">
            <a:solidFill>
              <a:srgbClr val="ff3300"/>
            </a:solidFill>
            <a:round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444680" y="2128680"/>
            <a:ext cx="6549840" cy="1870200"/>
          </a:xfrm>
          <a:custGeom>
            <a:avLst/>
            <a:gdLst/>
            <a:ahLst/>
            <a:rect l="l" t="t" r="r" b="b"/>
            <a:pathLst>
              <a:path w="4126" h="1178">
                <a:moveTo>
                  <a:pt x="227" y="1155"/>
                </a:moveTo>
                <a:cubicBezTo>
                  <a:pt x="310" y="1178"/>
                  <a:pt x="493" y="932"/>
                  <a:pt x="609" y="910"/>
                </a:cubicBezTo>
                <a:cubicBezTo>
                  <a:pt x="725" y="888"/>
                  <a:pt x="767" y="1011"/>
                  <a:pt x="926" y="1024"/>
                </a:cubicBezTo>
                <a:cubicBezTo>
                  <a:pt x="1085" y="1037"/>
                  <a:pt x="1325" y="1004"/>
                  <a:pt x="1563" y="986"/>
                </a:cubicBezTo>
                <a:cubicBezTo>
                  <a:pt x="1801" y="968"/>
                  <a:pt x="2134" y="985"/>
                  <a:pt x="2354" y="917"/>
                </a:cubicBezTo>
                <a:cubicBezTo>
                  <a:pt x="2574" y="849"/>
                  <a:pt x="2714" y="625"/>
                  <a:pt x="2884" y="579"/>
                </a:cubicBezTo>
                <a:cubicBezTo>
                  <a:pt x="3054" y="533"/>
                  <a:pt x="3244" y="658"/>
                  <a:pt x="3376" y="638"/>
                </a:cubicBezTo>
                <a:cubicBezTo>
                  <a:pt x="3508" y="618"/>
                  <a:pt x="3561" y="463"/>
                  <a:pt x="3675" y="456"/>
                </a:cubicBezTo>
                <a:cubicBezTo>
                  <a:pt x="3789" y="449"/>
                  <a:pt x="3995" y="639"/>
                  <a:pt x="4059" y="594"/>
                </a:cubicBezTo>
                <a:cubicBezTo>
                  <a:pt x="4123" y="549"/>
                  <a:pt x="4126" y="281"/>
                  <a:pt x="4057" y="184"/>
                </a:cubicBezTo>
                <a:cubicBezTo>
                  <a:pt x="3988" y="87"/>
                  <a:pt x="3765" y="0"/>
                  <a:pt x="3644" y="11"/>
                </a:cubicBezTo>
                <a:cubicBezTo>
                  <a:pt x="3523" y="22"/>
                  <a:pt x="3463" y="235"/>
                  <a:pt x="3329" y="249"/>
                </a:cubicBezTo>
                <a:cubicBezTo>
                  <a:pt x="3195" y="263"/>
                  <a:pt x="2962" y="98"/>
                  <a:pt x="2838" y="95"/>
                </a:cubicBezTo>
                <a:cubicBezTo>
                  <a:pt x="2714" y="92"/>
                  <a:pt x="2685" y="170"/>
                  <a:pt x="2584" y="233"/>
                </a:cubicBezTo>
                <a:cubicBezTo>
                  <a:pt x="2483" y="296"/>
                  <a:pt x="2338" y="453"/>
                  <a:pt x="2231" y="471"/>
                </a:cubicBezTo>
                <a:cubicBezTo>
                  <a:pt x="2124" y="489"/>
                  <a:pt x="2043" y="321"/>
                  <a:pt x="1939" y="341"/>
                </a:cubicBezTo>
                <a:cubicBezTo>
                  <a:pt x="1835" y="361"/>
                  <a:pt x="1782" y="623"/>
                  <a:pt x="1607" y="592"/>
                </a:cubicBezTo>
                <a:cubicBezTo>
                  <a:pt x="1432" y="561"/>
                  <a:pt x="1136" y="127"/>
                  <a:pt x="887" y="157"/>
                </a:cubicBezTo>
                <a:cubicBezTo>
                  <a:pt x="638" y="187"/>
                  <a:pt x="220" y="608"/>
                  <a:pt x="110" y="774"/>
                </a:cubicBezTo>
                <a:cubicBezTo>
                  <a:pt x="0" y="940"/>
                  <a:pt x="144" y="1132"/>
                  <a:pt x="227" y="1155"/>
                </a:cubicBezTo>
                <a:close/>
              </a:path>
            </a:pathLst>
          </a:custGeom>
          <a:noFill/>
          <a:ln w="76320">
            <a:solidFill>
              <a:srgbClr val="ff3300"/>
            </a:solidFill>
            <a:round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670040" y="3633840"/>
            <a:ext cx="6496200" cy="1192320"/>
          </a:xfrm>
          <a:custGeom>
            <a:avLst/>
            <a:gdLst/>
            <a:ahLst/>
            <a:rect l="l" t="t" r="r" b="b"/>
            <a:pathLst>
              <a:path w="4092" h="751">
                <a:moveTo>
                  <a:pt x="115" y="699"/>
                </a:moveTo>
                <a:cubicBezTo>
                  <a:pt x="229" y="751"/>
                  <a:pt x="351" y="707"/>
                  <a:pt x="822" y="706"/>
                </a:cubicBezTo>
                <a:cubicBezTo>
                  <a:pt x="1293" y="705"/>
                  <a:pt x="2419" y="717"/>
                  <a:pt x="2942" y="691"/>
                </a:cubicBezTo>
                <a:cubicBezTo>
                  <a:pt x="3465" y="665"/>
                  <a:pt x="3828" y="642"/>
                  <a:pt x="3960" y="551"/>
                </a:cubicBezTo>
                <a:cubicBezTo>
                  <a:pt x="4092" y="460"/>
                  <a:pt x="3860" y="224"/>
                  <a:pt x="3733" y="146"/>
                </a:cubicBezTo>
                <a:cubicBezTo>
                  <a:pt x="3606" y="68"/>
                  <a:pt x="3336" y="82"/>
                  <a:pt x="3195" y="84"/>
                </a:cubicBezTo>
                <a:cubicBezTo>
                  <a:pt x="3054" y="86"/>
                  <a:pt x="3001" y="170"/>
                  <a:pt x="2888" y="161"/>
                </a:cubicBezTo>
                <a:cubicBezTo>
                  <a:pt x="2775" y="152"/>
                  <a:pt x="2625" y="33"/>
                  <a:pt x="2519" y="30"/>
                </a:cubicBezTo>
                <a:cubicBezTo>
                  <a:pt x="2413" y="27"/>
                  <a:pt x="2366" y="145"/>
                  <a:pt x="2250" y="146"/>
                </a:cubicBezTo>
                <a:cubicBezTo>
                  <a:pt x="2134" y="147"/>
                  <a:pt x="2048" y="0"/>
                  <a:pt x="1820" y="38"/>
                </a:cubicBezTo>
                <a:cubicBezTo>
                  <a:pt x="1592" y="76"/>
                  <a:pt x="1163" y="317"/>
                  <a:pt x="883" y="376"/>
                </a:cubicBezTo>
                <a:cubicBezTo>
                  <a:pt x="603" y="435"/>
                  <a:pt x="266" y="337"/>
                  <a:pt x="138" y="391"/>
                </a:cubicBezTo>
                <a:cubicBezTo>
                  <a:pt x="10" y="445"/>
                  <a:pt x="0" y="650"/>
                  <a:pt x="115" y="699"/>
                </a:cubicBezTo>
                <a:close/>
              </a:path>
            </a:pathLst>
          </a:custGeom>
          <a:noFill/>
          <a:ln w="76320">
            <a:solidFill>
              <a:srgbClr val="ff3300"/>
            </a:solidFill>
            <a:round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econd study resul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17400" y="5805360"/>
            <a:ext cx="800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an task completion time for each technique depending of the ID of th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708360" y="2421000"/>
            <a:ext cx="0" cy="273672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940360" y="1773360"/>
            <a:ext cx="0" cy="338436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'05, Victoria, B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1D99-3F06-4B08-9023-893F322C5B61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econd study resul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2124000" y="1628640"/>
            <a:ext cx="4896000" cy="420228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3279240" y="5805360"/>
            <a:ext cx="247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rror rates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(in perc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rcRect l="0" t="0" r="53750" b="3068"/>
          <a:stretch/>
        </p:blipFill>
        <p:spPr>
          <a:xfrm>
            <a:off x="1619280" y="1630440"/>
            <a:ext cx="2448000" cy="410364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4140360" y="3571920"/>
            <a:ext cx="2232000" cy="50472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'05, Victoria, B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D950-D3E8-4319-87B7-3AE33503256D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econd study resul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1908000" y="1413000"/>
            <a:ext cx="5473800" cy="428940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2489400" y="5805360"/>
            <a:ext cx="422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bjective preferences (higher is bet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500720" y="1628640"/>
            <a:ext cx="2232000" cy="187164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500720" y="3645000"/>
            <a:ext cx="2232000" cy="187164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'05, Victoria, B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7D9F-1B91-4B61-974C-66D927EF3119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0" y="1746000"/>
            <a:ext cx="91440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Drag-and-drop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performs well on single displ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ong pointer-to-target techniques,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acc. push-and-throw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ign improvements were benefic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ush-and-pop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utperformed all other techniqu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'05, Victoria, B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A9CB-EFEB-4448-974A-2B416AF8B88A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0" y="1746000"/>
            <a:ext cx="91440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chniques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that bring content to the us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performed bet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think: this is because they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minimiz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he need for users to reorient themsel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'05, Victoria, B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4572-0BF6-47D9-80F0-64CB6BCFF744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tends Push-and-pop to widge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ptimize design of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push-and-po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3132000" y="2997360"/>
            <a:ext cx="5185080" cy="3382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'05, Victoria, B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A240-6915-4CAC-B05F-5947277152FD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108000" y="2205000"/>
            <a:ext cx="6156360" cy="37990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6084720" y="4437000"/>
            <a:ext cx="2916360" cy="195732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tends Push-and-pop to widge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'05, Victoria, B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06D7-3572-48E4-A7CB-85F98A64F152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ank you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nks to Mountaz &amp; Bri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wnload our demo fr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ww.lirmm.fr/vag/dragg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'05, Victoria, B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B866-3865-4C07-BC82-0A78D7744A71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inting on wall-size displa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rvey of existing techniqu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icking </a:t>
            </a: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pus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and-throw &amp; drag-and-</a:t>
            </a: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po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best of both worlds: </a:t>
            </a: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push-and-po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r Stud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443640" y="1628640"/>
            <a:ext cx="2124000" cy="1413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'05, Victoria, B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2D56-8D58-4FE5-9F42-6AB3B529649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« In case of » slid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« many same-icon targets » probl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np with rubber ba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np with one rubber band (current selected targe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eriment desktop layout cho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eriment rooms arrang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tending push-and-pop to widge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'05, Victoria, B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DF42-D8B5-46E2-B4E3-9B20000D8BA7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« many same-icon targets » proble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539640" y="1052640"/>
            <a:ext cx="8209080" cy="5356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'05, Victoria, B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23DF-8FC0-4DA3-8232-AD54BA9DDDBB}" type="slidenum">
              <a:t>4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ush-and-pop with rubber ban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1763640" y="2924280"/>
            <a:ext cx="5143680" cy="2357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'05, Victoria, B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E682-8F16-494E-8553-4F63AD6B8448}" type="slidenum">
              <a:t>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7" dur="4667" fill="hold"/>
                                        <p:tgtEl>
                                          <p:spTgt spid="2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4667"/>
                            </p:stCondLst>
                            <p:childTnLst>
                              <p:par>
                                <p:cTn id="27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0" dur="4667" fill="hold"/>
                                        <p:tgtEl>
                                          <p:spTgt spid="2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9334"/>
                            </p:stCondLst>
                            <p:childTnLst>
                              <p:par>
                                <p:cTn id="28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3" dur="4667" fill="hold"/>
                                        <p:tgtEl>
                                          <p:spTgt spid="2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ush-and-pop with one rubber band (current selected target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1763640" y="2924280"/>
            <a:ext cx="5143680" cy="2357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'05, Victoria, B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781C-F746-4074-969B-3AFAE88882A8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9" dur="3334" fill="hold"/>
                                        <p:tgtEl>
                                          <p:spTgt spid="2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3334"/>
                            </p:stCondLst>
                            <p:childTnLst>
                              <p:par>
                                <p:cTn id="29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2" dur="3334" fill="hold"/>
                                        <p:tgtEl>
                                          <p:spTgt spid="2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6668"/>
                            </p:stCondLst>
                            <p:childTnLst>
                              <p:par>
                                <p:cTn id="29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5" dur="3334" fill="hold"/>
                                        <p:tgtEl>
                                          <p:spTgt spid="2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xperiment desktop layout choice (1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95280" y="1599840"/>
            <a:ext cx="82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 blocks of 10 tri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 interaction techniqu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ag-and-dro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sh-and-po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 desktop layout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me sources and targets (different positions for each trial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fferent source and targe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total of 160 tri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ngle display and mouse were us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'05, Victoria, B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6B3B-57F5-4C7F-8197-F4998DA9A850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arking menus [Kurtenbach, CHI 94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0" y="2887560"/>
            <a:ext cx="4427640" cy="355608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4211640" y="1557360"/>
            <a:ext cx="4932360" cy="2478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'05, Victoria, B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DD80-F354-410A-AE09-C4C30ECED4EB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xperiment desktop layout choice (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ul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fferences wasn’t significant between the 2 desktop layou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 = 0.706 for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drag-and-dro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 = 0.566 for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push-and-po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0" y="3770280"/>
            <a:ext cx="4572000" cy="308772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4572000" y="3770280"/>
            <a:ext cx="4572000" cy="308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'05, Victoria, B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F63F-1CC8-4AC2-A775-E09D7D55ED1D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uture work: Tableclot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685800" y="3505320"/>
            <a:ext cx="7314480" cy="2316600"/>
            <a:chOff x="685800" y="3505320"/>
            <a:chExt cx="7314480" cy="2316600"/>
          </a:xfrm>
        </p:grpSpPr>
        <p:pic>
          <p:nvPicPr>
            <p:cNvPr id="242" name="" descr=""/>
            <p:cNvPicPr/>
            <p:nvPr/>
          </p:nvPicPr>
          <p:blipFill>
            <a:blip r:embed="rId1"/>
            <a:stretch/>
          </p:blipFill>
          <p:spPr>
            <a:xfrm>
              <a:off x="685800" y="3505320"/>
              <a:ext cx="7314480" cy="1951560"/>
            </a:xfrm>
            <a:prstGeom prst="rect">
              <a:avLst/>
            </a:prstGeom>
            <a:ln w="19080">
              <a:solidFill>
                <a:srgbClr val="000000"/>
              </a:solidFill>
              <a:miter/>
            </a:ln>
          </p:spPr>
        </p:pic>
        <p:pic>
          <p:nvPicPr>
            <p:cNvPr id="243" name="" descr=""/>
            <p:cNvPicPr/>
            <p:nvPr/>
          </p:nvPicPr>
          <p:blipFill>
            <a:blip r:embed="rId2"/>
            <a:stretch/>
          </p:blipFill>
          <p:spPr>
            <a:xfrm>
              <a:off x="3714480" y="4373640"/>
              <a:ext cx="967320" cy="1448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'05, Victoria, B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4665-22DF-43EA-BF7C-DC527349EB6D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all-size display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47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gmented surfaces are more and more widely avail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martboard ®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ynaW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W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292720" y="1844640"/>
            <a:ext cx="3851280" cy="28893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rcRect l="24642" t="0" r="0" b="0"/>
          <a:stretch/>
        </p:blipFill>
        <p:spPr>
          <a:xfrm>
            <a:off x="6721560" y="3716280"/>
            <a:ext cx="2422440" cy="24116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3924360" y="3357720"/>
            <a:ext cx="2384280" cy="3189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'05, Victoria, B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2AF7-1F25-4979-B234-18E69AF3857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11206" t="0" r="0" b="0"/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46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Problems with pen&amp;touc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4581360"/>
            <a:ext cx="45720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31840" indent="-231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may not be able to reach con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rget may be too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zels not touch sensi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tig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'05, Victoria, B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A421-1774-4DF7-B3CC-D25E5F0B405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Related work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(RSVP version)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'05, Victoria, B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F92C-7ED4-40E4-B122-29BD181F1E0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ick-and-drop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ick-and-drop [Rekimoto, 97]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ke-and-put [Geißler, 98]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979640" y="3716280"/>
            <a:ext cx="5143320" cy="2357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'05, Victoria, B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6300-4A23-46F8-9C4D-47B3F4D8D84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mediacall" presetID="1" repeatCount="1000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" dur="3534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3534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3534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7068"/>
                            </p:stCondLst>
                            <p:childTnLst>
                              <p:par>
                                <p:cTn id="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" dur="3534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yperdragging [Rekimoto, CHI 99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50920" y="1413000"/>
            <a:ext cx="6769080" cy="50767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rcRect l="26676" t="9898" r="24390" b="20929"/>
          <a:stretch/>
        </p:blipFill>
        <p:spPr>
          <a:xfrm>
            <a:off x="6443640" y="3860640"/>
            <a:ext cx="2376360" cy="251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'05, Victoria, B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2062-DDE2-43D9-B660-CD2BA06341B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6T07:58:37Z</dcterms:created>
  <dc:creator>collomb</dc:creator>
  <dc:description/>
  <dc:language>en-US</dc:language>
  <cp:lastModifiedBy>collomb</cp:lastModifiedBy>
  <dcterms:modified xsi:type="dcterms:W3CDTF">2005-05-09T08:35:04Z</dcterms:modified>
  <cp:revision>57</cp:revision>
  <dc:subject/>
  <dc:title>Diapositive 1</dc:title>
</cp:coreProperties>
</file>